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9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dt" idx="4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ftr" idx="4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 type="sldNum" idx="4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C1F1-2796-4591-977B-D4F7751B9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sson 9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2CF9-40A5-4BDF-861F-7B74485E56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BCCF-1FEA-4682-A64A-0BF6917D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2B33-36FD-4D7D-B565-57AF337E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7058C-D8E5-4500-9F24-00357583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643E4-CEC7-49AF-87A1-8282BA39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2B6DB-38BE-4BD4-8AEA-70CC23DA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FB4D5-202F-49A0-A698-4506B59E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F6029-EBC1-442A-82EC-947C35B2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10CD8-A2F6-4540-9CE9-962F96D2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A3BCB-9C24-48FC-BB58-79A29CAE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945F5-EEC4-4167-9A25-794229C8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C9E64-7692-4085-A597-53D78EBD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7CB16-A08A-4A86-9240-D4852A01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949D-03FA-43FD-A754-91D39432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204D1-80A8-4394-880C-19D736C1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06BE3-1466-4560-8542-2159B17D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D1611-E3AB-4007-927A-CA7C7659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FA98A-7636-40F5-BB0F-35B861D5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90338-BF2E-4F8B-9326-9D9943A3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F287A-3A4C-4595-A7B2-E75D6F17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F4579-1701-47A9-BFE2-EA2068EB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2BB4F-4091-4783-8921-63B46C29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2C0B4-525B-4E62-82CE-E425F838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983CC-3FA9-48F6-A996-92A5A525E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A60C-7858-485B-9138-45E1230B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FC2ED-300F-4F27-A233-9C56DD0A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485F2-EE2A-46BA-B01B-1A101F4E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795F4-07DC-45DF-8943-693B5487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A14A6-3645-4A2D-8311-5AFFC267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D79D9-54C5-4858-87BE-9E8F6A19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6A387-D5F0-4D94-9E4A-84E4F38E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BC36A-BBFE-4F03-BF20-821F4164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0574F-1078-4F0E-B5C5-656B2A94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94689-8C41-4FEF-B716-B588A337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890E4-57CB-49B9-A4C7-F748E5E6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6237-AA8C-44C8-8378-7B86F8BC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3EEB2-C1B7-43A5-941C-709CA5A5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7A8E5-EECB-4153-A8F9-41188E5F8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6018F-C1BF-4AD7-BADE-594741FB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1E2A2-3726-43F8-979B-E0DDBA73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14A8E-E275-496D-BC8B-78E7610E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567D2-03E0-46AF-8C21-35AB9614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C0223-90B9-4DBD-AB7C-C48CF94B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123C6-D80B-49DA-8C7A-29EE1A0E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F0D9B-D5B2-4D80-8E3C-31C8704D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9BE33-5D94-4103-9D65-C23D0AF3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B4F1-C54C-41DD-8310-99C6FFD8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E38BE-2514-475C-A843-9A935F89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C96D7-266B-464E-BD04-71737DB8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59458-F229-407B-BF32-4A1FFBBB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AC4E1-04A4-44F7-ABF6-233ED9A9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6ED0C-3136-4700-B3BA-A33DF5F2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16E59F-E9F9-457F-AA86-8CB896D0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C865DC-AEE2-4E9A-86DC-08E2B563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B1D3F9-2704-4C6D-B207-6A0C9FAB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11266F-88D5-4A69-A351-52086A46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7149C0-ED28-46E6-BB4B-9B3CF12F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D7B1-F578-4B38-B4E6-88C1FCF5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3ABA7C-3BC1-48ED-9045-A38BA216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377006-914A-48A3-AB37-BAE6401A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244E1-8CB3-4906-87BA-C24158E7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30953C-73E1-496F-8B67-151CA3F6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C914A2-B7E6-4504-95B5-0927DDEC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88E16B-7FFB-4B78-AED4-BB1178D0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9BBD20-1104-41BA-A917-F52D0C44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6A507A-324F-43D2-AAEC-CF2EDD3E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8606F6-1487-4484-AB9C-373E762F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0742CA-843B-46A2-9D86-F59D0DA8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49DF-4D8D-4B99-8374-5ED6AD42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68B696-459E-4821-A708-FDA937C8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181DEE-6132-465B-84CC-4624612A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20EA2B-869F-4DDE-ACCE-C5059844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1DF431-2D68-44A4-BD59-77256236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8E4833-1850-4BB2-9CA1-1CA626EF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CC42C1-C7BB-4B7E-9933-23CB642B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F8B865-EFAF-467F-9A0B-84CBD268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D151F7-38C1-4760-82D2-939EB399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68BAB4-1939-4FBF-8D11-03E8B4C02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FC13C1-3C9A-4190-8DE3-64AA57C8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DB98-74D7-4BA6-8CAE-6FABDDB2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D574AE-D259-4473-ACBE-CAD66F18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254B7A-5CF6-48A2-ABF9-C0F173A2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5B83D7-BF63-4417-A890-6F9515C1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47BE49-60A3-4EA1-9908-49266F0D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19FFCD-F804-4A1F-B2DA-C30E69EB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3F77DE-B3E0-4FE9-8787-243D3C6F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7E157D-149D-469A-8CAF-C453180A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0B37C4-EEFB-4EA8-9BD6-2D9D17A5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AC2457-6326-4DEA-BAC7-16A9ECC4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2006EE-1403-4EB0-B5A3-86E2EE3C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7546-76CD-421B-9B22-7A9F4285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9CA3B2-E4DD-4C1A-A469-3D09FAF3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A257-7CC1-48D9-9819-73B3C82F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A82F-920F-4D92-B670-80C484F2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73C3-6C25-43B1-93F9-D9660A80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3952-BA82-4223-93A0-91B54521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C6D3-3D04-483A-9EA1-A9765E1E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C13D-C685-491D-8B51-A75496C24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7040-7592-47AE-88B7-0C6A5899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FBA44-1F05-4D41-A6BF-F28146B2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170B3-3FFA-4B56-8536-9E58634C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7A7A7-394C-4FF1-8908-D7141E89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E9CC5-C89A-419D-BD62-CFFFB209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14BBB-531C-4C43-9A28-F11C634F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EB31-ED12-47C6-80E7-6A51D245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88715-187A-453A-BCB4-B21A343E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94616-F268-4B27-8D33-E98A3CB6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DB7AC-BE9A-4752-B668-1C0DF01B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B31FF-CCAE-4F42-ADFC-C45BB42A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F1A04-9F46-4C34-AA3B-FCAB6EEA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E7ECA-29D5-4712-B76F-EC561FD9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21988-5E66-4E90-8370-5B20F795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6EDF1-A1A9-4547-8CD8-EE52B098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CFB39-EAB0-440B-B1E0-FBDCCB8E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270A9-4B94-49C9-BFBC-5F8E1692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1B8-4EE6-4BC2-A963-794BD901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81BF3-459B-4DB4-8F71-4F1D5533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F47FD-9235-4FF4-A003-F1443E75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E67C4-1789-4DAF-8363-1EF54CED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F0A8B-9C3B-42B0-B34E-16463ACD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69D6F-3E70-4E12-8A67-076B8FDF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A975D-C379-47A3-A1CA-782C6C2B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E0302-1A63-45F0-930D-72858894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BCD06-4198-4120-A8EE-5D2E6727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85F3C-C2C8-45D6-80F5-4A5E2CB9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8C1A4-7D2F-4802-A1AE-37627BE8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669A-B4AA-433C-B06B-D1473D92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206DB-087D-42BB-9119-73931873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9BC18-7234-43CB-A08B-C8732502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F084B-ED43-4FBE-9972-D15A9286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0FEB3-60CF-43AC-8818-536DAB9B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75E26-8E48-4C14-9342-5F7704D3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0BF8B-4FE5-4C21-946D-D8B22286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55917-4F70-470F-94EE-042869C8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C95AA-C0B2-44DD-AA36-E2E6693E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33641-1AD5-4C9F-AA6F-891E599B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6C896-D1BC-4F47-B51D-88D20709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EDF2-A492-408A-B628-EE689709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6DE88-EBFE-4AB2-9115-985F950F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4B3AB-B29F-46A3-B720-F47FA8CB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1FE36-EC98-412E-838C-39334E96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224B6-6B2B-4621-9714-6B58E5BC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34667-CBD4-4677-922F-4C8F5BA7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7338F-2E6A-40A7-9CB3-0C0FA435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E1DA2-6D7F-4A9B-B792-A03391C6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F1990-2240-4F06-8EB0-C9B2C521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CAD12-8040-4395-823B-79E4CFC1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E32EA-7731-4A57-8744-69282EDD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AF1D-A03F-4AAF-9FE5-AF665F0A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00040-C717-480C-9A84-1D072F1A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8643C-C917-44F0-BCE1-0BD9A483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0DE25-D480-4155-A664-9CE5AAF7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4422C-B7CA-4932-9137-FB72A621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8093B-0ECB-46C3-AD58-1575D9DB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8B7DB-1330-4457-870E-B6FBC317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D37CC-AA6E-4CA0-BE54-71E2672B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EEF7E-6F27-408A-A047-08936B1A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768AF-C050-4507-AA0C-B52B469E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BCFBE-5D52-4E4B-AA2F-CC13B7B9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B35D-699D-4C62-A3B1-693ACE42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7FA8F-7094-4283-958B-1C2E0286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35074-A690-4D30-B26C-7EB8D58B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9CEED-87D0-4D55-909A-D8D540B8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C4B7D-7A60-4BED-95C5-627AFAB2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F5767-DB0D-46AA-A6CE-8823622C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A0CED-4BE1-4F05-9247-F028E8FB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101FF-387D-4680-ABDE-1B130C20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CCB76-B4E2-458C-8E5C-4BCF5AF5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5C642-4144-4334-9E4D-9C8CEC2A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0B9C6-0A9B-40B4-B727-F98190F6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7185-1B58-4577-A74A-F0B1100A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2E797-E055-4464-9E80-AB69D00D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F1D38-1663-4B8B-95BA-E0F7FC5B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63F10-9FFE-42C6-9086-896AB0D3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1DBF6-1E3A-4F32-8C3E-004036DD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ED94F-BD75-45F6-8F9E-016AE8A7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EFA84-74E3-459D-89AE-22C77F13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E4687-A14F-471A-ADE9-59FA389A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3CBBD-DDE6-47AA-BB6B-07639A6D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22817-9990-44D1-8F6B-C8E96283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CD46B-715B-4F5D-A438-619B37B2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2574-3E3B-43FB-9DA6-147F9D6AA6B5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73A7-54CA-40C1-B72C-9D26474C69D8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rot="16200000">
            <a:off x="10864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2666520" y="6356520"/>
            <a:ext cx="162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D626-B2CC-49D3-B493-EE630E1D9981}" type="datetime">
              <a:rPr b="0" lang="en-US" sz="1200" spc="-1" strike="noStrike">
                <a:solidFill>
                  <a:srgbClr val="000000"/>
                </a:solidFill>
                <a:latin typeface="Calisto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240840" y="6356520"/>
            <a:ext cx="189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1891800" y="5748480"/>
            <a:ext cx="762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000000"/>
                </a:solidFill>
                <a:latin typeface="Perpetua Titling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E787-9A1E-4EDF-96AD-121417A12CAF}" type="slidenum">
              <a:rPr b="0" lang="en-US" sz="3600" spc="-1" strike="noStrike">
                <a:solidFill>
                  <a:srgbClr val="000000"/>
                </a:solidFill>
                <a:latin typeface="Perpetua Titling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rot="16200000">
            <a:off x="10864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2670120" y="6356520"/>
            <a:ext cx="162720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835C-A18F-4250-922B-09EAF569FB61}" type="datetime">
              <a:rPr b="0" lang="en-US" sz="1200" spc="-1" strike="noStrike">
                <a:solidFill>
                  <a:srgbClr val="000000"/>
                </a:solidFill>
                <a:latin typeface="Calisto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240840" y="6356520"/>
            <a:ext cx="18939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1892160" y="5738760"/>
            <a:ext cx="7588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000000"/>
                </a:solidFill>
                <a:latin typeface="Perpetua Titling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B632-0F65-49B5-8603-90C2F72BE9CA}" type="slidenum">
              <a:rPr b="0" lang="en-US" sz="3600" spc="-1" strike="noStrike">
                <a:solidFill>
                  <a:srgbClr val="000000"/>
                </a:solidFill>
                <a:latin typeface="Perpetua Titling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E7CE-A528-4F96-B53E-D688D69AFF82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00FB-9FC0-451B-99EA-2932A7EA1ADF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8EC5-4F1D-416A-B465-96EABCBE95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4A14-EA56-49C0-A832-F9226797F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4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3AE4-DC68-4C7F-A524-6E2C21F3F47B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4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4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7BAD-0EF7-4EA3-B4B1-B1677D8B3F24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6" descr="Overlay-FullBackground.jpg"/>
          <p:cNvPicPr/>
          <p:nvPr/>
        </p:nvPicPr>
        <p:blipFill>
          <a:blip r:embed="rId3"/>
          <a:srcRect l="0" t="0" r="14720" b="0"/>
          <a:stretch/>
        </p:blipFill>
        <p:spPr>
          <a:xfrm>
            <a:off x="0" y="4680"/>
            <a:ext cx="7797960" cy="6858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flipH="1" rot="5400000">
            <a:off x="44218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43"/>
          </p:nvPr>
        </p:nvSpPr>
        <p:spPr>
          <a:xfrm>
            <a:off x="7924680" y="6356520"/>
            <a:ext cx="10670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A192-587A-4136-9B20-B212F819FD6C}" type="datetime">
              <a:rPr b="0" lang="en-US" sz="1200" spc="-1" strike="noStrike">
                <a:solidFill>
                  <a:srgbClr val="ffffff"/>
                </a:solidFill>
                <a:latin typeface="Calisto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4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4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725F-63BF-45F4-AD04-E63E736BA522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DD17-5158-4201-B2E7-4D7C0D8F06DC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20D3-9EA1-44B2-8EA5-C6D7BEB0C0DF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0E98-C327-45A0-8E9A-A5A6808CD248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532D-A159-48D7-86F5-643B5DC22806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52BC-6A35-49F8-8EC5-C6F7AC8F0384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4441-0995-4B2C-B506-6F20287AA25E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4446720"/>
            <a:ext cx="9144000" cy="125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Overlay-FullBackground.jpg"/>
          <p:cNvPicPr/>
          <p:nvPr/>
        </p:nvPicPr>
        <p:blipFill>
          <a:blip r:embed="rId4"/>
          <a:srcRect l="0" t="66668" r="0" b="0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068E-3DFE-4F40-AEBC-9421CC6154F7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F5E2-EE47-4C7F-AB65-D7D55C49DC44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9FC3-30DA-45C6-A4A9-E54868C793B8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9FD3-CA54-45B5-93CC-A3456E9FFDB1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F24F-517D-4FDE-A59C-4753CE6EC3B4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6767-0FD2-4536-8F7D-08C66210B8F9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Overlay-FullBackground.jpg"/>
          <p:cNvPicPr/>
          <p:nvPr/>
        </p:nvPicPr>
        <p:blipFill>
          <a:blip r:embed="rId4"/>
          <a:srcRect l="0" t="21048" r="0" b="0"/>
          <a:stretch/>
        </p:blipFill>
        <p:spPr>
          <a:xfrm>
            <a:off x="0" y="1447920"/>
            <a:ext cx="9144000" cy="541476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4AEF-89A1-4657-9899-1F922B7CC418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88CA-DFED-4D13-8123-F58D9C70D981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7B48-9CEF-4358-9505-D99AF7A3C335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6CF1-9A89-4721-B82D-54DC08C3F460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0" y="63000"/>
            <a:ext cx="91440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Perpetua Titling MT"/>
              </a:rPr>
              <a:t>Recording Closing Entries</a:t>
            </a:r>
            <a:endParaRPr b="0" lang="en-US" sz="37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47" name="TextBox 4"/>
          <p:cNvSpPr/>
          <p:nvPr/>
        </p:nvSpPr>
        <p:spPr>
          <a:xfrm>
            <a:off x="152280" y="1530360"/>
            <a:ext cx="9144000" cy="53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333333"/>
                </a:solidFill>
                <a:uFillTx/>
                <a:latin typeface="Times New Roman"/>
              </a:rPr>
              <a:t>Permanent Account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ounts used to accumulate information from one fiscal to the nex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333333"/>
                </a:solidFill>
                <a:uFillTx/>
                <a:latin typeface="Times New Roman"/>
              </a:rPr>
              <a:t>Includ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Assets, Liability, and Owner’s Equity Capit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nding permanent accounts are the beginning balances for the next fiscal peri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333333"/>
                </a:solidFill>
                <a:uFillTx/>
                <a:latin typeface="Times New Roman"/>
              </a:rPr>
              <a:t>Temporary Account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ounts used to accumulate information until it is transferred to the owners equity capital accoun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333333"/>
                </a:solidFill>
                <a:uFillTx/>
                <a:latin typeface="Times New Roman"/>
              </a:rPr>
              <a:t>Includ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Revenue, Expenses, and Owner’s Equity Withdraw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mporary Accounts begin a new fiscal period with zero bala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Perpetua Titling MT"/>
              </a:rPr>
              <a:t>Closing Entries</a:t>
            </a:r>
            <a:endParaRPr b="0" lang="en-US" sz="39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49" name="TextBox 2"/>
          <p:cNvSpPr/>
          <p:nvPr/>
        </p:nvSpPr>
        <p:spPr>
          <a:xfrm>
            <a:off x="457200" y="1828800"/>
            <a:ext cx="81532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333333"/>
                </a:solidFill>
                <a:uFillTx/>
                <a:latin typeface="Times New Roman"/>
              </a:rPr>
              <a:t>Closing Entrie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Journal Entries used to prepare Temporary Accounts for the beginning of a new fiscal period.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To close the account, an amount equal to its balance is recorded on the side opposite its current balance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Perpetua Titling MT"/>
              </a:rPr>
              <a:t>Income Summary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51" name="Line 2"/>
          <p:cNvSpPr/>
          <p:nvPr/>
        </p:nvSpPr>
        <p:spPr>
          <a:xfrm>
            <a:off x="1676520" y="3276720"/>
            <a:ext cx="5790960" cy="0"/>
          </a:xfrm>
          <a:prstGeom prst="line">
            <a:avLst/>
          </a:prstGeom>
          <a:ln w="442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4648320" y="3276720"/>
            <a:ext cx="0" cy="990360"/>
          </a:xfrm>
          <a:prstGeom prst="line">
            <a:avLst/>
          </a:prstGeom>
          <a:ln w="442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Line 4"/>
          <p:cNvSpPr/>
          <p:nvPr/>
        </p:nvSpPr>
        <p:spPr>
          <a:xfrm flipV="1">
            <a:off x="1676520" y="5638680"/>
            <a:ext cx="5790960" cy="30240"/>
          </a:xfrm>
          <a:prstGeom prst="line">
            <a:avLst/>
          </a:prstGeom>
          <a:ln w="442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0" bIns="-61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Line 5"/>
          <p:cNvSpPr/>
          <p:nvPr/>
        </p:nvSpPr>
        <p:spPr>
          <a:xfrm>
            <a:off x="4648320" y="5715000"/>
            <a:ext cx="0" cy="838080"/>
          </a:xfrm>
          <a:prstGeom prst="line">
            <a:avLst/>
          </a:prstGeom>
          <a:ln w="442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TextBox 6"/>
          <p:cNvSpPr/>
          <p:nvPr/>
        </p:nvSpPr>
        <p:spPr>
          <a:xfrm>
            <a:off x="2600280" y="35812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b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TextBox 7"/>
          <p:cNvSpPr/>
          <p:nvPr/>
        </p:nvSpPr>
        <p:spPr>
          <a:xfrm>
            <a:off x="2600280" y="5943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b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TextBox 8"/>
          <p:cNvSpPr/>
          <p:nvPr/>
        </p:nvSpPr>
        <p:spPr>
          <a:xfrm>
            <a:off x="5796000" y="6019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TextBox 9"/>
          <p:cNvSpPr/>
          <p:nvPr/>
        </p:nvSpPr>
        <p:spPr>
          <a:xfrm>
            <a:off x="5796000" y="35812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TextBox 10"/>
          <p:cNvSpPr/>
          <p:nvPr/>
        </p:nvSpPr>
        <p:spPr>
          <a:xfrm>
            <a:off x="2766240" y="28144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 Income = Credit Ba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TextBox 11"/>
          <p:cNvSpPr/>
          <p:nvPr/>
        </p:nvSpPr>
        <p:spPr>
          <a:xfrm>
            <a:off x="2917800" y="5029200"/>
            <a:ext cx="34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 Loss = Credit Ba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TextBox 12"/>
          <p:cNvSpPr/>
          <p:nvPr/>
        </p:nvSpPr>
        <p:spPr>
          <a:xfrm>
            <a:off x="228600" y="1371600"/>
            <a:ext cx="84582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91003"/>
                </a:solidFill>
                <a:latin typeface="Times New Roman"/>
              </a:rPr>
              <a:t>A temporary account used to summarize the closing entries for revenue and expense account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167760"/>
            <a:ext cx="9144000" cy="8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Perpetua Titling MT"/>
              </a:rPr>
              <a:t>CLOSING ENTRY FOR AN INCOME STATEMENT ACCOUNT WITH A CREDIT BALANCE</a:t>
            </a:r>
            <a:endParaRPr b="0" lang="en-US" sz="2900" spc="-1" strike="noStrike">
              <a:solidFill>
                <a:srgbClr val="ffffff"/>
              </a:solidFill>
              <a:latin typeface="Perpetua Titling MT"/>
            </a:endParaRPr>
          </a:p>
        </p:txBody>
      </p:sp>
      <p:pic>
        <p:nvPicPr>
          <p:cNvPr id="663" name="Picture 4" descr="D:\C21 PowerPoint\Multi_Journal\art for blue\Ch09\Ch09-02a.jpg"/>
          <p:cNvPicPr/>
          <p:nvPr/>
        </p:nvPicPr>
        <p:blipFill>
          <a:blip r:embed="rId2"/>
          <a:srcRect l="17523" t="0" r="0" b="63354"/>
          <a:stretch/>
        </p:blipFill>
        <p:spPr>
          <a:xfrm>
            <a:off x="457200" y="1143000"/>
            <a:ext cx="6462720" cy="3757680"/>
          </a:xfrm>
          <a:prstGeom prst="rect">
            <a:avLst/>
          </a:prstGeom>
          <a:ln w="0">
            <a:noFill/>
          </a:ln>
        </p:spPr>
      </p:pic>
      <p:sp>
        <p:nvSpPr>
          <p:cNvPr id="664" name="Oval 6"/>
          <p:cNvSpPr/>
          <p:nvPr/>
        </p:nvSpPr>
        <p:spPr>
          <a:xfrm>
            <a:off x="1600200" y="335268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e5e5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1f07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Oval 7"/>
          <p:cNvSpPr/>
          <p:nvPr/>
        </p:nvSpPr>
        <p:spPr>
          <a:xfrm>
            <a:off x="533520" y="379260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e5e5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1f07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Text Box 8"/>
          <p:cNvSpPr/>
          <p:nvPr/>
        </p:nvSpPr>
        <p:spPr>
          <a:xfrm>
            <a:off x="514440" y="573264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ecord the debit, S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xt Box 9"/>
          <p:cNvSpPr/>
          <p:nvPr/>
        </p:nvSpPr>
        <p:spPr>
          <a:xfrm>
            <a:off x="514440" y="49942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1. Write the head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Text Box 10"/>
          <p:cNvSpPr/>
          <p:nvPr/>
        </p:nvSpPr>
        <p:spPr>
          <a:xfrm>
            <a:off x="514440" y="6095880"/>
            <a:ext cx="49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ecord the credit, Income Summar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Text Box 11"/>
          <p:cNvSpPr/>
          <p:nvPr/>
        </p:nvSpPr>
        <p:spPr>
          <a:xfrm>
            <a:off x="514440" y="5359320"/>
            <a:ext cx="39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0" name="Group 21"/>
          <p:cNvGrpSpPr/>
          <p:nvPr/>
        </p:nvGrpSpPr>
        <p:grpSpPr>
          <a:xfrm>
            <a:off x="2895480" y="4343400"/>
            <a:ext cx="3048120" cy="685800"/>
            <a:chOff x="2895480" y="4343400"/>
            <a:chExt cx="3048120" cy="685800"/>
          </a:xfrm>
        </p:grpSpPr>
        <p:sp>
          <p:nvSpPr>
            <p:cNvPr id="671" name="Line 14"/>
            <p:cNvSpPr/>
            <p:nvPr/>
          </p:nvSpPr>
          <p:spPr>
            <a:xfrm flipV="1">
              <a:off x="4724280" y="4343400"/>
              <a:ext cx="1219320" cy="38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Line 15"/>
            <p:cNvSpPr/>
            <p:nvPr/>
          </p:nvSpPr>
          <p:spPr>
            <a:xfrm flipH="1" flipV="1">
              <a:off x="2895480" y="4343400"/>
              <a:ext cx="1981440" cy="38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Oval 16"/>
            <p:cNvSpPr/>
            <p:nvPr/>
          </p:nvSpPr>
          <p:spPr>
            <a:xfrm>
              <a:off x="4572000" y="457200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e5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1f07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4" name="Group 27"/>
          <p:cNvGrpSpPr/>
          <p:nvPr/>
        </p:nvGrpSpPr>
        <p:grpSpPr>
          <a:xfrm>
            <a:off x="1828440" y="2098800"/>
            <a:ext cx="7112880" cy="1939680"/>
            <a:chOff x="1828440" y="2098800"/>
            <a:chExt cx="7112880" cy="1939680"/>
          </a:xfrm>
        </p:grpSpPr>
        <p:grpSp>
          <p:nvGrpSpPr>
            <p:cNvPr id="675" name="Group 22"/>
            <p:cNvGrpSpPr/>
            <p:nvPr/>
          </p:nvGrpSpPr>
          <p:grpSpPr>
            <a:xfrm>
              <a:off x="1828440" y="2514600"/>
              <a:ext cx="3657960" cy="1523880"/>
              <a:chOff x="1828440" y="2514600"/>
              <a:chExt cx="3657960" cy="1523880"/>
            </a:xfrm>
          </p:grpSpPr>
          <p:sp>
            <p:nvSpPr>
              <p:cNvPr id="676" name="Line 18"/>
              <p:cNvSpPr/>
              <p:nvPr/>
            </p:nvSpPr>
            <p:spPr>
              <a:xfrm>
                <a:off x="4800600" y="2819520"/>
                <a:ext cx="685800" cy="10666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Line 19"/>
              <p:cNvSpPr/>
              <p:nvPr/>
            </p:nvSpPr>
            <p:spPr>
              <a:xfrm flipH="1">
                <a:off x="1828440" y="2743200"/>
                <a:ext cx="3048120" cy="12952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Oval 20"/>
              <p:cNvSpPr/>
              <p:nvPr/>
            </p:nvSpPr>
            <p:spPr>
              <a:xfrm>
                <a:off x="4572000" y="2514600"/>
                <a:ext cx="457200" cy="457200"/>
              </a:xfrm>
              <a:prstGeom prst="ellipse">
                <a:avLst/>
              </a:prstGeom>
              <a:solidFill>
                <a:srgbClr val="cc0000"/>
              </a:solidFill>
              <a:ln w="38160">
                <a:solidFill>
                  <a:srgbClr val="e5e5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21f07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Group 25"/>
            <p:cNvGrpSpPr/>
            <p:nvPr/>
          </p:nvGrpSpPr>
          <p:grpSpPr>
            <a:xfrm>
              <a:off x="5791320" y="2098800"/>
              <a:ext cx="3150000" cy="1904760"/>
              <a:chOff x="5791320" y="2098800"/>
              <a:chExt cx="3150000" cy="1904760"/>
            </a:xfrm>
          </p:grpSpPr>
          <p:sp>
            <p:nvSpPr>
              <p:cNvPr id="680" name="Freeform 23"/>
              <p:cNvSpPr/>
              <p:nvPr/>
            </p:nvSpPr>
            <p:spPr>
              <a:xfrm>
                <a:off x="5791320" y="2098800"/>
                <a:ext cx="1371600" cy="19047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Text Box 24"/>
              <p:cNvSpPr/>
              <p:nvPr/>
            </p:nvSpPr>
            <p:spPr>
              <a:xfrm>
                <a:off x="6921000" y="2830680"/>
                <a:ext cx="2020320" cy="398880"/>
              </a:xfrm>
              <a:prstGeom prst="rect">
                <a:avLst/>
              </a:prstGeom>
              <a:solidFill>
                <a:srgbClr val="921f07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33"/>
                    </a:solidFill>
                    <a:latin typeface="Arial"/>
                  </a:rPr>
                  <a:t>(Debit to close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2" name="Text Box 26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9-2, page 2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erpetua Titling MT"/>
              </a:rPr>
              <a:t>CLOSING ENTRY FOR INCOME STATEMENT ACCOUNTS WITH DEBIT BALANCES</a:t>
            </a:r>
            <a:endParaRPr b="0" lang="en-US" sz="2800" spc="-1" strike="noStrike">
              <a:solidFill>
                <a:srgbClr val="ffffff"/>
              </a:solidFill>
              <a:latin typeface="Perpetua Titling MT"/>
            </a:endParaRPr>
          </a:p>
        </p:txBody>
      </p:sp>
      <p:pic>
        <p:nvPicPr>
          <p:cNvPr id="684" name="Picture 4" descr="D:\C21 PowerPoint\Multi_Journal\art for blue\Ch09\Ch09-02b.jpg"/>
          <p:cNvPicPr/>
          <p:nvPr/>
        </p:nvPicPr>
        <p:blipFill>
          <a:blip r:embed="rId2"/>
          <a:srcRect l="16285" t="0" r="0" b="54526"/>
          <a:stretch/>
        </p:blipFill>
        <p:spPr>
          <a:xfrm>
            <a:off x="457200" y="1676520"/>
            <a:ext cx="5850000" cy="4952880"/>
          </a:xfrm>
          <a:prstGeom prst="rect">
            <a:avLst/>
          </a:prstGeom>
          <a:ln w="0">
            <a:noFill/>
          </a:ln>
        </p:spPr>
      </p:pic>
      <p:sp>
        <p:nvSpPr>
          <p:cNvPr id="685" name="Oval 5"/>
          <p:cNvSpPr/>
          <p:nvPr/>
        </p:nvSpPr>
        <p:spPr>
          <a:xfrm>
            <a:off x="2590920" y="4724280"/>
            <a:ext cx="38088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e5e5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1f07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Oval 6"/>
          <p:cNvSpPr/>
          <p:nvPr/>
        </p:nvSpPr>
        <p:spPr>
          <a:xfrm>
            <a:off x="533520" y="4894200"/>
            <a:ext cx="38088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e5e5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1f07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Text Box 7"/>
          <p:cNvSpPr/>
          <p:nvPr/>
        </p:nvSpPr>
        <p:spPr>
          <a:xfrm>
            <a:off x="6248520" y="24908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ecord the credi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Text Box 8"/>
          <p:cNvSpPr/>
          <p:nvPr/>
        </p:nvSpPr>
        <p:spPr>
          <a:xfrm>
            <a:off x="6248520" y="17524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1. Write the da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Text Box 9"/>
          <p:cNvSpPr/>
          <p:nvPr/>
        </p:nvSpPr>
        <p:spPr>
          <a:xfrm>
            <a:off x="6248520" y="285444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ecord the debi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Text Box 10"/>
          <p:cNvSpPr/>
          <p:nvPr/>
        </p:nvSpPr>
        <p:spPr>
          <a:xfrm>
            <a:off x="6248520" y="21178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Income Summary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Oval 14"/>
          <p:cNvSpPr/>
          <p:nvPr/>
        </p:nvSpPr>
        <p:spPr>
          <a:xfrm>
            <a:off x="5181480" y="4724280"/>
            <a:ext cx="38124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e5e5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1f07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2" name="Group 26"/>
          <p:cNvGrpSpPr/>
          <p:nvPr/>
        </p:nvGrpSpPr>
        <p:grpSpPr>
          <a:xfrm>
            <a:off x="4876920" y="2438280"/>
            <a:ext cx="3645360" cy="3962160"/>
            <a:chOff x="4876920" y="2438280"/>
            <a:chExt cx="3645360" cy="3962160"/>
          </a:xfrm>
        </p:grpSpPr>
        <p:grpSp>
          <p:nvGrpSpPr>
            <p:cNvPr id="693" name="Group 25"/>
            <p:cNvGrpSpPr/>
            <p:nvPr/>
          </p:nvGrpSpPr>
          <p:grpSpPr>
            <a:xfrm>
              <a:off x="4876920" y="2438280"/>
              <a:ext cx="1600200" cy="3962160"/>
              <a:chOff x="4876920" y="2438280"/>
              <a:chExt cx="1600200" cy="3962160"/>
            </a:xfrm>
          </p:grpSpPr>
          <p:sp>
            <p:nvSpPr>
              <p:cNvPr id="694" name="Freeform 21"/>
              <p:cNvSpPr/>
              <p:nvPr/>
            </p:nvSpPr>
            <p:spPr>
              <a:xfrm>
                <a:off x="4876920" y="2438280"/>
                <a:ext cx="1218960" cy="1218960"/>
              </a:xfrm>
              <a:prstGeom prst="pie">
                <a:avLst/>
              </a:prstGeom>
              <a:noFill/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Freeform 22"/>
              <p:cNvSpPr/>
              <p:nvPr/>
            </p:nvSpPr>
            <p:spPr>
              <a:xfrm>
                <a:off x="6095880" y="3428640"/>
                <a:ext cx="381240" cy="2590920"/>
              </a:xfrm>
              <a:prstGeom prst="pie">
                <a:avLst/>
              </a:prstGeom>
              <a:noFill/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Freeform 23"/>
              <p:cNvSpPr/>
              <p:nvPr/>
            </p:nvSpPr>
            <p:spPr>
              <a:xfrm>
                <a:off x="6172200" y="5330520"/>
                <a:ext cx="152280" cy="1069920"/>
              </a:xfrm>
              <a:prstGeom prst="pie">
                <a:avLst/>
              </a:prstGeom>
              <a:noFill/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7" name="Text Box 24"/>
            <p:cNvSpPr/>
            <p:nvPr/>
          </p:nvSpPr>
          <p:spPr>
            <a:xfrm>
              <a:off x="6402960" y="4278240"/>
              <a:ext cx="2119320" cy="398880"/>
            </a:xfrm>
            <a:prstGeom prst="rect">
              <a:avLst/>
            </a:prstGeom>
            <a:solidFill>
              <a:srgbClr val="921f07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(Credit to clos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Oval 18"/>
            <p:cNvSpPr/>
            <p:nvPr/>
          </p:nvSpPr>
          <p:spPr>
            <a:xfrm>
              <a:off x="6400800" y="5867280"/>
              <a:ext cx="380880" cy="3808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e5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1f07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9" name="Text Box 27"/>
          <p:cNvSpPr/>
          <p:nvPr/>
        </p:nvSpPr>
        <p:spPr>
          <a:xfrm>
            <a:off x="7429320" y="670500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9-2, page 2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0" y="227160"/>
            <a:ext cx="91440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Perpetua Titling MT"/>
              </a:rPr>
              <a:t>CLOSING ENTRY TO RECORD NET INCOME OR LOSS AND CLOSE THE INCOME SUMMARY ACCOUNT</a:t>
            </a:r>
            <a:endParaRPr b="0" lang="en-US" sz="2500" spc="-1" strike="noStrike">
              <a:solidFill>
                <a:srgbClr val="ffffff"/>
              </a:solidFill>
              <a:latin typeface="Perpetua Titling MT"/>
            </a:endParaRPr>
          </a:p>
        </p:txBody>
      </p:sp>
      <p:pic>
        <p:nvPicPr>
          <p:cNvPr id="701" name="Picture 4" descr="D:\C21 PowerPoint\Multi_Journal\art for blue\Ch09\Ch09-02c.jpg"/>
          <p:cNvPicPr/>
          <p:nvPr/>
        </p:nvPicPr>
        <p:blipFill>
          <a:blip r:embed="rId2"/>
          <a:srcRect l="13786" t="0" r="0" b="59098"/>
          <a:stretch/>
        </p:blipFill>
        <p:spPr>
          <a:xfrm>
            <a:off x="457200" y="1531800"/>
            <a:ext cx="6005520" cy="3811680"/>
          </a:xfrm>
          <a:prstGeom prst="rect">
            <a:avLst/>
          </a:prstGeom>
          <a:ln w="0">
            <a:noFill/>
          </a:ln>
        </p:spPr>
      </p:pic>
      <p:sp>
        <p:nvSpPr>
          <p:cNvPr id="702" name="Oval 6"/>
          <p:cNvSpPr/>
          <p:nvPr/>
        </p:nvSpPr>
        <p:spPr>
          <a:xfrm>
            <a:off x="457200" y="442764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e5e5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1f07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Text Box 10"/>
          <p:cNvSpPr/>
          <p:nvPr/>
        </p:nvSpPr>
        <p:spPr>
          <a:xfrm>
            <a:off x="609480" y="6224760"/>
            <a:ext cx="47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ecord the credi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Text Box 11"/>
          <p:cNvSpPr/>
          <p:nvPr/>
        </p:nvSpPr>
        <p:spPr>
          <a:xfrm>
            <a:off x="609480" y="54864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1. Write the da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Text Box 13"/>
          <p:cNvSpPr/>
          <p:nvPr/>
        </p:nvSpPr>
        <p:spPr>
          <a:xfrm>
            <a:off x="609480" y="5851440"/>
            <a:ext cx="39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ecord the debi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6" name="Group 19"/>
          <p:cNvGrpSpPr/>
          <p:nvPr/>
        </p:nvGrpSpPr>
        <p:grpSpPr>
          <a:xfrm>
            <a:off x="3124080" y="5037120"/>
            <a:ext cx="2514600" cy="762120"/>
            <a:chOff x="3124080" y="5037120"/>
            <a:chExt cx="2514600" cy="762120"/>
          </a:xfrm>
        </p:grpSpPr>
        <p:sp>
          <p:nvSpPr>
            <p:cNvPr id="707" name="Line 16"/>
            <p:cNvSpPr/>
            <p:nvPr/>
          </p:nvSpPr>
          <p:spPr>
            <a:xfrm flipV="1">
              <a:off x="4572000" y="5037120"/>
              <a:ext cx="1066680" cy="5335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Line 17"/>
            <p:cNvSpPr/>
            <p:nvPr/>
          </p:nvSpPr>
          <p:spPr>
            <a:xfrm flipH="1" flipV="1">
              <a:off x="3124080" y="5037120"/>
              <a:ext cx="1295280" cy="5335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Oval 7"/>
            <p:cNvSpPr/>
            <p:nvPr/>
          </p:nvSpPr>
          <p:spPr>
            <a:xfrm>
              <a:off x="4267080" y="526572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e5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1f07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0" name="Group 18"/>
          <p:cNvGrpSpPr/>
          <p:nvPr/>
        </p:nvGrpSpPr>
        <p:grpSpPr>
          <a:xfrm>
            <a:off x="2666520" y="3208320"/>
            <a:ext cx="2210040" cy="1447560"/>
            <a:chOff x="2666520" y="3208320"/>
            <a:chExt cx="2210040" cy="1447560"/>
          </a:xfrm>
        </p:grpSpPr>
        <p:sp>
          <p:nvSpPr>
            <p:cNvPr id="711" name="Line 14"/>
            <p:cNvSpPr/>
            <p:nvPr/>
          </p:nvSpPr>
          <p:spPr>
            <a:xfrm>
              <a:off x="4419360" y="3665520"/>
              <a:ext cx="457200" cy="9144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Line 15"/>
            <p:cNvSpPr/>
            <p:nvPr/>
          </p:nvSpPr>
          <p:spPr>
            <a:xfrm flipH="1">
              <a:off x="2666520" y="3589200"/>
              <a:ext cx="1523880" cy="10666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Oval 9"/>
            <p:cNvSpPr/>
            <p:nvPr/>
          </p:nvSpPr>
          <p:spPr>
            <a:xfrm>
              <a:off x="4114440" y="3208320"/>
              <a:ext cx="53352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e5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1f07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4" name="Group 25"/>
          <p:cNvGrpSpPr/>
          <p:nvPr/>
        </p:nvGrpSpPr>
        <p:grpSpPr>
          <a:xfrm>
            <a:off x="5029200" y="2141640"/>
            <a:ext cx="3886200" cy="2743200"/>
            <a:chOff x="5029200" y="2141640"/>
            <a:chExt cx="3886200" cy="2743200"/>
          </a:xfrm>
        </p:grpSpPr>
        <p:sp>
          <p:nvSpPr>
            <p:cNvPr id="715" name="Freeform 21"/>
            <p:cNvSpPr/>
            <p:nvPr/>
          </p:nvSpPr>
          <p:spPr>
            <a:xfrm>
              <a:off x="5029200" y="2657520"/>
              <a:ext cx="3886200" cy="222732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Text Box 20"/>
            <p:cNvSpPr/>
            <p:nvPr/>
          </p:nvSpPr>
          <p:spPr>
            <a:xfrm>
              <a:off x="6324480" y="2141640"/>
              <a:ext cx="2133720" cy="580680"/>
            </a:xfrm>
            <a:prstGeom prst="rect">
              <a:avLst/>
            </a:prstGeom>
            <a:solidFill>
              <a:srgbClr val="921f07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(Capital: credit to record net inco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7" name="Group 26"/>
          <p:cNvGrpSpPr/>
          <p:nvPr/>
        </p:nvGrpSpPr>
        <p:grpSpPr>
          <a:xfrm>
            <a:off x="5486400" y="3075120"/>
            <a:ext cx="3124080" cy="1581120"/>
            <a:chOff x="5486400" y="3075120"/>
            <a:chExt cx="3124080" cy="1581120"/>
          </a:xfrm>
        </p:grpSpPr>
        <p:sp>
          <p:nvSpPr>
            <p:cNvPr id="718" name="Freeform 23"/>
            <p:cNvSpPr/>
            <p:nvPr/>
          </p:nvSpPr>
          <p:spPr>
            <a:xfrm>
              <a:off x="5486400" y="3360960"/>
              <a:ext cx="1828800" cy="12952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Text Box 22"/>
            <p:cNvSpPr/>
            <p:nvPr/>
          </p:nvSpPr>
          <p:spPr>
            <a:xfrm>
              <a:off x="6553080" y="3075120"/>
              <a:ext cx="2057400" cy="580680"/>
            </a:xfrm>
            <a:prstGeom prst="rect">
              <a:avLst/>
            </a:prstGeom>
            <a:solidFill>
              <a:srgbClr val="921f07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(Income Summary: debit to clos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0" name="Text Box 27"/>
          <p:cNvSpPr/>
          <p:nvPr/>
        </p:nvSpPr>
        <p:spPr>
          <a:xfrm>
            <a:off x="7429320" y="65602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9-2, page 2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010280" cy="8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Perpetua Titling MT"/>
              </a:rPr>
              <a:t>CLOSING ENTRY FOR THE OWNER’S DRAWING ACCOUNT</a:t>
            </a:r>
            <a:endParaRPr b="0" lang="en-US" sz="2900" spc="-1" strike="noStrike">
              <a:solidFill>
                <a:srgbClr val="ffffff"/>
              </a:solidFill>
              <a:latin typeface="Perpetua Titling MT"/>
            </a:endParaRPr>
          </a:p>
        </p:txBody>
      </p:sp>
      <p:pic>
        <p:nvPicPr>
          <p:cNvPr id="722" name="Picture 4" descr="D:\C21 PowerPoint\Multi_Journal\art for blue\Ch09\Ch09-02d.jpg"/>
          <p:cNvPicPr/>
          <p:nvPr/>
        </p:nvPicPr>
        <p:blipFill>
          <a:blip r:embed="rId2"/>
          <a:srcRect l="17094" t="7291" r="0" b="64640"/>
          <a:stretch/>
        </p:blipFill>
        <p:spPr>
          <a:xfrm>
            <a:off x="457200" y="1608120"/>
            <a:ext cx="6207120" cy="3303720"/>
          </a:xfrm>
          <a:prstGeom prst="rect">
            <a:avLst/>
          </a:prstGeom>
          <a:ln w="0">
            <a:noFill/>
          </a:ln>
        </p:spPr>
      </p:pic>
      <p:sp>
        <p:nvSpPr>
          <p:cNvPr id="723" name="Oval 5"/>
          <p:cNvSpPr/>
          <p:nvPr/>
        </p:nvSpPr>
        <p:spPr>
          <a:xfrm>
            <a:off x="457200" y="389412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e5e5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1f07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Text Box 6"/>
          <p:cNvSpPr/>
          <p:nvPr/>
        </p:nvSpPr>
        <p:spPr>
          <a:xfrm>
            <a:off x="609480" y="6072120"/>
            <a:ext cx="47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ecord the credi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Text Box 7"/>
          <p:cNvSpPr/>
          <p:nvPr/>
        </p:nvSpPr>
        <p:spPr>
          <a:xfrm>
            <a:off x="609480" y="53341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1. Write the da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Text Box 8"/>
          <p:cNvSpPr/>
          <p:nvPr/>
        </p:nvSpPr>
        <p:spPr>
          <a:xfrm>
            <a:off x="609480" y="5699160"/>
            <a:ext cx="39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ecord the debi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7" name="Group 9"/>
          <p:cNvGrpSpPr/>
          <p:nvPr/>
        </p:nvGrpSpPr>
        <p:grpSpPr>
          <a:xfrm>
            <a:off x="3276720" y="4503600"/>
            <a:ext cx="2514600" cy="762120"/>
            <a:chOff x="3276720" y="4503600"/>
            <a:chExt cx="2514600" cy="762120"/>
          </a:xfrm>
        </p:grpSpPr>
        <p:sp>
          <p:nvSpPr>
            <p:cNvPr id="728" name="Line 10"/>
            <p:cNvSpPr/>
            <p:nvPr/>
          </p:nvSpPr>
          <p:spPr>
            <a:xfrm flipV="1">
              <a:off x="4724640" y="4503600"/>
              <a:ext cx="1066680" cy="5335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Line 11"/>
            <p:cNvSpPr/>
            <p:nvPr/>
          </p:nvSpPr>
          <p:spPr>
            <a:xfrm flipH="1" flipV="1">
              <a:off x="3276720" y="4503600"/>
              <a:ext cx="1295280" cy="5335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4419720" y="473220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e5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1f07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1" name="Group 22"/>
          <p:cNvGrpSpPr/>
          <p:nvPr/>
        </p:nvGrpSpPr>
        <p:grpSpPr>
          <a:xfrm>
            <a:off x="5029200" y="2481120"/>
            <a:ext cx="3886200" cy="1987560"/>
            <a:chOff x="5029200" y="2481120"/>
            <a:chExt cx="3886200" cy="1987560"/>
          </a:xfrm>
        </p:grpSpPr>
        <p:sp>
          <p:nvSpPr>
            <p:cNvPr id="732" name="Freeform 18"/>
            <p:cNvSpPr/>
            <p:nvPr/>
          </p:nvSpPr>
          <p:spPr>
            <a:xfrm>
              <a:off x="5029200" y="2698560"/>
              <a:ext cx="3886200" cy="177012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Text Box 19"/>
            <p:cNvSpPr/>
            <p:nvPr/>
          </p:nvSpPr>
          <p:spPr>
            <a:xfrm>
              <a:off x="6248520" y="2481120"/>
              <a:ext cx="2514600" cy="337320"/>
            </a:xfrm>
            <a:prstGeom prst="rect">
              <a:avLst/>
            </a:prstGeom>
            <a:solidFill>
              <a:srgbClr val="921f07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(Capital: credit to clos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4" name="Group 23"/>
          <p:cNvGrpSpPr/>
          <p:nvPr/>
        </p:nvGrpSpPr>
        <p:grpSpPr>
          <a:xfrm>
            <a:off x="2666880" y="2522520"/>
            <a:ext cx="2210040" cy="1600200"/>
            <a:chOff x="2666880" y="2522520"/>
            <a:chExt cx="2210040" cy="1600200"/>
          </a:xfrm>
        </p:grpSpPr>
        <p:sp>
          <p:nvSpPr>
            <p:cNvPr id="735" name="Line 14"/>
            <p:cNvSpPr/>
            <p:nvPr/>
          </p:nvSpPr>
          <p:spPr>
            <a:xfrm>
              <a:off x="3657600" y="2827440"/>
              <a:ext cx="1219320" cy="1218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Line 15"/>
            <p:cNvSpPr/>
            <p:nvPr/>
          </p:nvSpPr>
          <p:spPr>
            <a:xfrm flipH="1">
              <a:off x="2666880" y="2903400"/>
              <a:ext cx="990720" cy="1219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Oval 16"/>
            <p:cNvSpPr/>
            <p:nvPr/>
          </p:nvSpPr>
          <p:spPr>
            <a:xfrm>
              <a:off x="3429000" y="252252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e5e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1f07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20:30:06Z</dcterms:created>
  <dc:creator>Mary Colleen McLaughlin</dc:creator>
  <dc:description/>
  <dc:language>en-US</dc:language>
  <cp:lastModifiedBy>David Combs</cp:lastModifiedBy>
  <cp:lastPrinted>1999-03-31T05:34:45Z</cp:lastPrinted>
  <dcterms:modified xsi:type="dcterms:W3CDTF">2012-11-30T17:13:10Z</dcterms:modified>
  <cp:revision>16</cp:revision>
  <dc:subject/>
  <dc:title>ADJUSTING ENTRY FOR SUPPLIES</dc:title>
</cp:coreProperties>
</file>